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17D-E9A8-414F-8C84-E266D00C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E5E-2FE1-4F00-80FF-84C7505E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691-2448-408C-8AA0-9A0CF8F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7B4-9495-4224-804A-DBD25243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49E-7420-4938-9F43-A2B4C6C6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DAD-68E9-4254-A153-8B2806F9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8772-87FB-4E78-8A15-50812A99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94D8-CF35-4891-A740-CBF9BE0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9CB1-7C2E-4ACD-9378-93EADF53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616A-51C0-44B3-8D96-98A9B8A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10A0-9B3F-4BFD-ABCA-19327125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D6B-5B86-4014-A254-53CF725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3FD-FBDE-45E0-BADC-D81200E4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E49A-30C0-4334-8C5D-2168C12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7D7-AFD5-43C5-A663-DF51558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797-F33C-4302-82CD-26F622BD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8AF1-6D95-4692-A2C3-2A82A153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E9-89DC-40AB-81EB-2EC3EB0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F4F-5B69-4402-8E1B-8CC7B114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8B2-3645-430E-AD09-A625992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E09-E6DF-4C0F-8990-38EF60E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C38-CE43-462A-9968-1823C24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660-72F2-44D2-B742-8DE93CC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1C0-B5D2-45B9-9B10-C9978EC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D5C-7F1B-4639-ABBB-D18DA6A4D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BF0-91E0-4539-AD3D-83A1B91A6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KATEDRA ZA ORTOPEDIJO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bušna leg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kolk/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že na hrbtu položi pacient stopalo na nasprot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v dimljah govori za kolčno patolog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itisk na koleno in nasprotno spino lahko povzroči bolečino v 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itev dolžine ud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 anteriornih superiornih spin ali iliakalnih krist stoje; ocena nagib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ritev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solutn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e spodnjih udov leže (od SIAS do medialnega maleo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omembnejša od relativne dolžine (od popka do medialnega maleola) je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funkcionaln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a, ki je odraz vseh kontraktur in prikrajš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skenomet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lžina spodnjih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kstremit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lut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dez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cionalna dolžina: izravnava medenice s podlaga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E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en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ik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ži neposredno pod kož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vržen poškodb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iskusa zagotavljata maksimalno elastičnost ob maksimalni stabilnosti skl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stabilnost so pomembne ve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cija tipičnih točk na kolen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ktorni tub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rh pogač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zitas ti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a fib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kolateralni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a in lateralna sklepna šp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arastišče tetiv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jev tuberkel (narastišče traktusa iliotibial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kurvatum (= hiperkekstenz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ne rotacije v fleksiji (jih ne mer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ava kontraktura (pas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zpad ekstenzije (akt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eg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 čez pogačico (izli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nad pogačico (rece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nad pogačico (muskulatura – atrof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gotavljanje izliva v kole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nik lež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esno koleno je iztegnj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 levico iztisnemo suprapatelarni rec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 prsti desnice hitro potisnemo patelo proti podlagi (femoralni trohlej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utimo trd dotik kosti 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hanična os stoje:  center glavice kolka, center kolena, center glež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dstopanje:  varus, val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Ženske imajo konstitucionalni valgus (širša medeni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roci sprva varus, nato valgus, nato normalno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art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hlapnost v frontalni ravni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leno se na nateg odpira v ekstenziji (kar kaže na prizadetost prednje križne vezi) ali le v fleksiji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lgus nateg (X):  ohlapnost medi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rus nateg (O):  ohlapnost later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Spre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Vlek golenice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o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levico fiksiramo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desnico potegnemo golen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  za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Za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tisk navzad – translacija tibije na femor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doben sprednjemu:  repozicija iz subluks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gled od strani (kontura kol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cija v fleksiji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k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e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sti na sklepni špran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tiramo/ekstendiramo/rotira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Čakamo preskok (ki ga včasih tudi slišim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eskok je bole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gač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večja sezamoid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zboljša učinkovitost ekstenzije kol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blem sprednje bolečnosti kolena, nestabilnosti pogač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za hondropatijo pat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je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Iztegnje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lag potisk patele navzd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ontrakcija kvadricep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rimerjava D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oleči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iranje moč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ekstenz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fleks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cija tipičnih točk v predelu kolk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liki trohanter (vrh, zadnji ro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zstopišče ishiadik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ulz arterije femoralis pod ingvinalnim ligamen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li tro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k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Figure 1A"/>
          <p:cNvPicPr/>
          <p:nvPr/>
        </p:nvPicPr>
        <p:blipFill>
          <a:blip r:embed="rId2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70120" y="-14054040"/>
          <a:ext cx="182520" cy="34967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{short description of image}"/>
          <p:cNvPicPr/>
          <p:nvPr/>
        </p:nvPicPr>
        <p:blipFill>
          <a:blip r:embed="rId2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Figure 1B"/>
          <p:cNvPicPr/>
          <p:nvPr/>
        </p:nvPicPr>
        <p:blipFill>
          <a:blip r:embed="rId3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Figure 1B"/>
          <p:cNvPicPr/>
          <p:nvPr/>
        </p:nvPicPr>
        <p:blipFill>
          <a:blip r:embed="rId4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na manš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orakalni s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zi med klavikulo in skap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humeralni rite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pazovanje pri gib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na luks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pri naslanjanju na steno (pareza n. thoracici longi ali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fija deltoida, supraspinat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ksacija (anteriorna, posterior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kromioklavikularna sindezmoliza (“klavirska tipka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ni pro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rak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(ak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(v addukciji ali v abdukciji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lasični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sedi, zdravnik sto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ka med abdukcijo in antefleks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elevira ro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pri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Figure 5"/>
          <p:cNvPicPr/>
          <p:nvPr/>
        </p:nvPicPr>
        <p:blipFill>
          <a:blip r:embed="rId2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ova modifikacij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ra utesnitev supraspinatusa pod CA ligament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Figure 6"/>
          <p:cNvPicPr/>
          <p:nvPr/>
        </p:nvPicPr>
        <p:blipFill>
          <a:blip r:embed="rId2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Moč supraspinat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bdukcija v rami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ksija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ksimalna notranja rot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e upira pritisku navzdol na komolec, ki ga izvaja zdra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kromioklavikularni) skle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kcija (klavirska tipka ob sindezmoli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Test horizontalne addukcij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cross-arm t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i kriteriji (Rockwoodova klasifika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Figure 7"/>
          <p:cNvPicPr/>
          <p:nvPr/>
        </p:nvPicPr>
        <p:blipFill>
          <a:blip r:embed="rId2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skl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Merimo leže.  Rotaciji merimo v fleksiji ali (bolje) v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trebušni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leg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nad sulku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 za tendinitis dolge kite: 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test stabilnosti kite v sulk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upinira in flektira komol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komolec rotira navzven se upira supin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Figure 9"/>
          <p:cNvPicPr/>
          <p:nvPr/>
        </p:nvPicPr>
        <p:blipFill>
          <a:blip r:embed="rId2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mane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pogib komolca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supinirana podleht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, zdravnik se upira nadaljnji fleksiji rame in palpira biceps v sulk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 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re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leži ali sedi;  roka v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kcije; zdravnik pritiska humerus naprej in navzven rotira ramo</a:t>
            </a: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bolečina ali občutek, da bo prišlo do izp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Sledi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 test repozi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Figure 8"/>
          <p:cNvPicPr/>
          <p:nvPr/>
        </p:nvPicPr>
        <p:blipFill>
          <a:blip r:embed="rId2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za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leži ali se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ma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kcije in komolec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f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dravnik potisne humerus naz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o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nak 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k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spodnja glenohumeralna nestabilnos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b potegu viseče roke navzdol se lateralno in pod akromionom oblikuje utor (lahko normalno pri mladi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Figure 10"/>
          <p:cNvPicPr/>
          <p:nvPr/>
        </p:nvPicPr>
        <p:blipFill>
          <a:blip r:embed="rId2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enski te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268280"/>
          <a:ext cx="8229600" cy="5054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dleht v fleksi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krom. utesnit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n.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tesnitev supras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uščanje iz abduk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ztrganina rot. manš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 90, a.fl.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v AC sklep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.r.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pr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k sulk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lek roke navz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ga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ama:  DDg bolečine v ra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tologija rotatorne manš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stabilnost (anteriorna, posteriorna, multidirekcion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endinitis bicep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vaskularna nekroza glavice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rtr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alcinirajoči tendinitis (PHS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mpingement supraskapularnega živ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vara brahialnega pleks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hialni nev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vropatska 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ndrom torakalnega iz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MOLE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:  gibljiv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a 0/1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a funkcijo potrebnih 30/130 fleksije in 50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omolec:  palpacija tipičnih toč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lekra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ica radi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di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torna kontaktura:  Thomasov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krajna fleksija nasprotnega kolka obliterira lumbalno lordozo, zato se manifestira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ktorna kontraktura, ki jo je pacient kompenziral s povečano lumbalno lordo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kra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dal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pogostejša je kombinacija flektorne, adduktorne, zunanje rota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jenje obsega s šiviljskim met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ic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- in supinator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stabi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lg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r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ZAPESTJ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  funkcionalno fl. in ekst. po 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kstenz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a deviacija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a deviac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upi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ega stiloida (stiloiditis, stenozantni tendinitis de Querva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ega stil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vikular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Zapestje:  utesnitev median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Tinel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po perkusiji medi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Phale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ob skrajni dorzifleksiji ali volarni fleksiji zapestja (držimo cca 30 sec do 1 m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DLAN, PRST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, 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teklina DIP, PIP, MCP; CMC sklep palca (rizartro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eberdenovi vozli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aleus deform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rigger finger/thumb”:  preskakovanje in boleč pritisk na flek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C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      1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hlapnost sklep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tabilni v ekstenz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i v fleks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ost ulnarnega kolateralnega ligamenta CMC sklepa palca po poškod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GLEŽENJ, STOPAL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eženj in stopa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tipičnih toč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zgornjem skočnem skle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ubtalarna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lžina Ahilove te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oč:  dorzifleksija, plantarna fleksija, peroneusa, 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ec in mali prsti:  tipične deformacije,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ient “poravnan” (medenica pravokotno na vzdolžno os ležišč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je preiskoval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ksacij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Obseg gležnja in palpacija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ipičnih toč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eklina ob zvinu (primerjava D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maleolov, sklepne špranje, narastišča Ahilove tetive, glavice 5. metatarzale, navikularke, grče pet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ibljivost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zgornjem/spodnjem skočnem sklep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kvinus (ekvinova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av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lgus (planovalg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hilova tetiv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rajšana:  stopalo v plantarni fleksiji (ekvinus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hompsono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leži na trebuh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 gnetenju gastroknemiusa pride pri intaktni Ahilovi tetivi do plantarne fleksije v gležn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e je strgana, giba 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č mišic ob gležnj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erone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c in mali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val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rigi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flek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ma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06560" cy="2985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65440" cy="356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16146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ferni pulzi na noga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65880" y="1628640"/>
            <a:ext cx="2954160" cy="43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120760" y="1628640"/>
            <a:ext cx="2995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omasov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za identifikacijo flek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600"/>
                </a:solidFill>
                <a:latin typeface="Tahoma"/>
              </a:rPr>
              <a:t>NAPAČNO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bduction Of Hip"/>
          <p:cNvPicPr/>
          <p:nvPr/>
        </p:nvPicPr>
        <p:blipFill>
          <a:blip r:embed="rId3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ocena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oz.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kolka klinično ne vid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udi povečane anteverzije vratu stegnenice ne vidimo, jo pa lahko ocenimo s pomočjo notranje rot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SZDZO</cp:lastModifiedBy>
  <dcterms:modified xsi:type="dcterms:W3CDTF">2013-10-01T06:23:59Z</dcterms:modified>
  <cp:revision>44</cp:revision>
  <dc:subject/>
  <dc:title>VAJE IZ ORTOPEDIJE</dc:title>
</cp:coreProperties>
</file>